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8E89-485A-4110-BF43-0A8F7CF8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253F-6F26-4124-B886-23FF2278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E02-F187-42EB-85B6-D53A1498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6D3-B1EA-4AC6-B09A-B6F5BA4D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754C-A5EE-465F-939D-C64BE114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3DCD-B6C3-4B9C-B56C-5E8C78B6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F543-FBEC-410B-8880-F20FC773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CF17-073C-490B-A7FC-8643811B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E6A-4771-4645-BDDC-66988C87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5240-DC98-4D52-A2EA-0B3A0677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F4D7-1AA0-4A5D-B95D-8D729966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E9B-9857-4543-A209-582EDC3F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D004-AF8C-4C87-A0E0-8DC368A3E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organ Per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http://t3.gstatic.com/images?q=tbn:ANd9GcQCjw9J7Gvdd5-53Q7nhG6qAA8xvCvRWP8vN6hel0rukfjUReB4Tg"/>
          <p:cNvPicPr/>
          <p:nvPr/>
        </p:nvPicPr>
        <p:blipFill>
          <a:blip r:embed="rId1"/>
          <a:stretch/>
        </p:blipFill>
        <p:spPr>
          <a:xfrm>
            <a:off x="457200" y="1828800"/>
            <a:ext cx="6934320" cy="4699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ttp://t3.gstatic.com/images?q=tbn:ANd9GcQwZfOhOxbBsoeWD25ADd1dCITZ7zzrNYMEngPrrKBu_w_ICkSz"/>
          <p:cNvPicPr/>
          <p:nvPr/>
        </p:nvPicPr>
        <p:blipFill>
          <a:blip r:embed="rId1"/>
          <a:stretch/>
        </p:blipFill>
        <p:spPr>
          <a:xfrm>
            <a:off x="685800" y="1752480"/>
            <a:ext cx="7315200" cy="4643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ea of land nearly surrounded by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http://www.crystalinks.com/greekcities.jpg"/>
          <p:cNvPicPr/>
          <p:nvPr/>
        </p:nvPicPr>
        <p:blipFill>
          <a:blip r:embed="rId1"/>
          <a:srcRect l="19999" t="13463" r="18919" b="21155"/>
          <a:stretch/>
        </p:blipFill>
        <p:spPr>
          <a:xfrm>
            <a:off x="0" y="1492200"/>
            <a:ext cx="8915400" cy="5365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ar between Athens and Sp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http://t0.gstatic.com/images?q=tbn:ANd9GcRV4nDpNmDv3NwfXq0vnqiDSyyS6onsNAERbEuhGiw4ISpZut-Bkw"/>
          <p:cNvPicPr/>
          <p:nvPr/>
        </p:nvPicPr>
        <p:blipFill>
          <a:blip r:embed="rId1"/>
          <a:stretch/>
        </p:blipFill>
        <p:spPr>
          <a:xfrm>
            <a:off x="457200" y="1600200"/>
            <a:ext cx="7162920" cy="4871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t0.gstatic.com/images?q=tbn:ANd9GcR3fTo6cG9nRK1hBQm6lyBsGV07gcTI6LY2djstUbYJ-xIcJir3"/>
          <p:cNvPicPr/>
          <p:nvPr/>
        </p:nvPicPr>
        <p:blipFill>
          <a:blip r:embed="rId1"/>
          <a:stretch/>
        </p:blipFill>
        <p:spPr>
          <a:xfrm>
            <a:off x="380880" y="1905120"/>
            <a:ext cx="8001000" cy="4267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long a coast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http://t1.gstatic.com/images?q=tbn:ANd9GcQncAZV_coDKfQB8YPRhi3SDDxnMLvEjjUKk4mMo1Q8az5J5qIq"/>
          <p:cNvPicPr/>
          <p:nvPr/>
        </p:nvPicPr>
        <p:blipFill>
          <a:blip r:embed="rId1"/>
          <a:stretch/>
        </p:blipFill>
        <p:spPr>
          <a:xfrm>
            <a:off x="0" y="1905120"/>
            <a:ext cx="8153280" cy="4533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t0.gstatic.com/images?q=tbn:ANd9GcT-D1LrfBds6j19alVDEJnk0375TcwV1u0-EwDgzDBTm4KodBy-xg"/>
          <p:cNvPicPr/>
          <p:nvPr/>
        </p:nvPicPr>
        <p:blipFill>
          <a:blip r:embed="rId1"/>
          <a:stretch/>
        </p:blipFill>
        <p:spPr>
          <a:xfrm>
            <a:off x="533520" y="2209680"/>
            <a:ext cx="7086600" cy="3554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t3.gstatic.com/images?q=tbn:ANd9GcRTAB9bofA4KGPTL8drs1uVh57mBgWVzs25XxLgm7himqTfxyHm"/>
          <p:cNvPicPr/>
          <p:nvPr/>
        </p:nvPicPr>
        <p:blipFill>
          <a:blip r:embed="rId1"/>
          <a:stretch/>
        </p:blipFill>
        <p:spPr>
          <a:xfrm>
            <a:off x="380880" y="2133720"/>
            <a:ext cx="7391520" cy="4451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 on issues that helped their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t1.gstatic.com/images?q=tbn:ANd9GcSuqqmYIcTKKWZva4IKjpX6ZAODyb5PcP32UyW33BbwT2sM3Nhw"/>
          <p:cNvPicPr/>
          <p:nvPr/>
        </p:nvPicPr>
        <p:blipFill>
          <a:blip r:embed="rId1"/>
          <a:stretch/>
        </p:blipFill>
        <p:spPr>
          <a:xfrm>
            <a:off x="380880" y="1981080"/>
            <a:ext cx="6858000" cy="4556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t3.gstatic.com/images?q=tbn:ANd9GcRoEkHc929r3Tg0zvdLcsKLh1ODyFddpqBkPsg3zcHAWLYm67lb"/>
          <p:cNvPicPr/>
          <p:nvPr/>
        </p:nvPicPr>
        <p:blipFill>
          <a:blip r:embed="rId1"/>
          <a:stretch/>
        </p:blipFill>
        <p:spPr>
          <a:xfrm>
            <a:off x="0" y="2209680"/>
            <a:ext cx="8077320" cy="4648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t1.gstatic.com/images?q=tbn:ANd9GcSWKAWWUSxCvz8gskWE9zdPlWuCjOB7Ccij8j9kTlJxI9SLMK7Xfw"/>
          <p:cNvPicPr/>
          <p:nvPr/>
        </p:nvPicPr>
        <p:blipFill>
          <a:blip r:embed="rId1"/>
          <a:stretch/>
        </p:blipFill>
        <p:spPr>
          <a:xfrm>
            <a:off x="0" y="2057400"/>
            <a:ext cx="7924680" cy="4281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www.xtimeline.com/__UserPic_Large/105028/evt110401205600048.gif"/>
          <p:cNvPicPr/>
          <p:nvPr/>
        </p:nvPicPr>
        <p:blipFill>
          <a:blip r:embed="rId1"/>
          <a:stretch/>
        </p:blipFill>
        <p:spPr>
          <a:xfrm>
            <a:off x="990720" y="1981080"/>
            <a:ext cx="6630840" cy="3505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s in court of the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t0.gstatic.com/images?q=tbn:ANd9GcQP84QRG_xe_32jz_JMn0x9SobINq3WII9D5ZMkBnz1dkOeg6ax"/>
          <p:cNvPicPr/>
          <p:nvPr/>
        </p:nvPicPr>
        <p:blipFill>
          <a:blip r:embed="rId1"/>
          <a:stretch/>
        </p:blipFill>
        <p:spPr>
          <a:xfrm>
            <a:off x="609480" y="1752480"/>
            <a:ext cx="6705720" cy="4470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one Ru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63360" y="-776160"/>
            <a:ext cx="28101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63360" y="-776160"/>
            <a:ext cx="28101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63360" y="-99072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http://www.dkimages.com/discover/previews/741/115902.JPG"/>
          <p:cNvPicPr/>
          <p:nvPr/>
        </p:nvPicPr>
        <p:blipFill>
          <a:blip r:embed="rId1"/>
          <a:stretch/>
        </p:blipFill>
        <p:spPr>
          <a:xfrm>
            <a:off x="1828800" y="1533600"/>
            <a:ext cx="5638680" cy="532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00:24:28Z</dcterms:modified>
  <cp:revision>91</cp:revision>
  <dc:subject/>
  <dc:title>Ancient Greece</dc:title>
</cp:coreProperties>
</file>